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FB7-5602-43A4-9AC9-0784EF5E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83F-1581-45A1-9D33-C0E04448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036-490B-456A-9EC9-D19D9E79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E86-FEF1-4295-A910-62D8011B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B2A-84B9-43D1-9FD7-57328EDA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6199-9B56-497E-B8AF-227D0496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1A52-D555-434F-B767-CDC156A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2425-3141-4A61-97B8-C6ECAA87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77DF-5400-41D2-B4C5-1A80B084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BEB-E728-4B65-8E0C-0E65DD51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3A9-23EC-4C37-89FD-9A5864E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47A-79F1-4477-9DD1-5115856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611-4282-4971-802C-98DFCB9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ED7-87F2-458F-9010-642F396B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BE9B-0C7E-4CAF-BEAE-B0B6887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B4C6-710D-475F-8EC1-6ABF2A0E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1936-9123-4533-8575-421815F1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7964-C3B1-4FD6-A19A-4120AA7E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A1B6-FFA1-450E-B669-826B6BBE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2ACD-AE66-46AC-9435-6F8B5DD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449D-AA9D-4405-A955-A5223A7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1884-6CCD-49E6-9918-C3889E9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D03-606C-4248-B5B3-B825463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4694-41FA-49DB-AA02-2FCC1FC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DA81-582A-436A-888B-24DC636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A028-AE2E-4DDD-B32A-3F34659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FFF6-A056-405E-94A5-F47588E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0A0E-6698-44BA-BC79-7AC4FCEF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0885-D649-4174-B3EF-C421B527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9071-D25C-4074-A718-35C4E196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1BB9-D7C0-409E-A10C-6F39E381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4AF6-6F72-4F1F-9CEB-A3D3930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4285-016D-47EA-93CA-745E03C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EAA-3DBD-46B8-AE2C-7CAB9A1D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F886-5434-4B54-99BA-0A5F6030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6F0B-B0EA-455B-BCB0-777AAD01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5509-38FC-49AB-A9D7-0CC34A79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E750-EEE8-40FB-8614-ED101AA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5C9C-70FF-4DE4-A866-C5BD0E8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48D9-11CA-41B8-BDD3-89DD3CE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DF9A-B2B2-45A4-9A37-7194813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FB0C-3DB5-41EF-B8A0-7CEDC6F2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7F88-5F2C-4DB3-A892-BCE093C1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3A1A-AB4D-4FFB-9880-F9C1ED3F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D1E-ED87-4288-85A4-9FE6002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1DD5-9DB5-42CE-ACE6-E05EA8D9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190E5-0DD3-4A0A-8538-20A0A84C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438B-8C23-4BC1-A494-F651E63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F2E3-1CF6-426C-8165-E7EFF1D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318E-6B9A-492D-9126-0E84C26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F68F7-AD6E-477D-9C12-5989B3A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85074-5E37-4D17-A2D9-4EB388D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8170B-D43C-4AD3-86BB-A482A307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122DD-9B66-4AA1-8429-C655616C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BF9B-357E-4F21-A653-2870EEC0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19C-A215-4F86-A638-A5723E1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137C-9903-485A-A7FE-6930F1AC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2E926-10EA-44B1-85B1-589CEF41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47B7-60B9-4406-BC13-CFBEBD5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B38CF-B50F-40D4-884C-92317B8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900B0-A4BE-4794-A6C2-0C18325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420A-A81C-4A82-8042-0CA70173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774A-60FE-46B5-9B72-1138669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A112E-2958-46E8-9CB5-0818529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057BD-94A4-4417-9914-3DE9A19B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95E6-BCB2-4580-80FC-2A37A1D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54D-8BFA-4C90-A80D-161A20D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49BA-947C-4E64-8BAE-F604BF03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5738-2308-42F3-9180-2C74C2A6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98F7F-2C2B-421D-877B-32EFE9C3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4CC-0F5D-40A4-81BB-2779D07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AE2-5952-4829-A051-8E2AAF19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537-117D-46A0-8CFE-74E58CB14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D577-EC03-4A2C-B744-9ED59340D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4D4-9584-49C2-B938-452515B1DA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16F9-338F-46C3-AD9E-8627DD8D4E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CDC-1F39-49D0-8450-CB6B2C6209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7DF8-CACC-4FD9-A5B2-1B5B423F21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579600" y="1047600"/>
            <a:ext cx="8283240" cy="32385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 rot="841800">
            <a:off x="791640" y="36669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4e7ed"/>
                </a:solidFill>
                <a:latin typeface="Lucida Sans Unicode"/>
              </a:rPr>
              <a:t>By: Naguib Mahfouz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78" name="Picture 12" descr="aten.jpg"/>
          <p:cNvPicPr/>
          <p:nvPr/>
        </p:nvPicPr>
        <p:blipFill>
          <a:blip r:embed="rId2"/>
          <a:stretch/>
        </p:blipFill>
        <p:spPr>
          <a:xfrm>
            <a:off x="457200" y="533520"/>
            <a:ext cx="23652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 rot="21427200">
            <a:off x="458640" y="144252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Ancient Egyptian name, ‘Egypt’, is Kemet which means “black land” because of the fertile black soil of the Nil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Egypt is transcontinental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Egypt has one of the most developed and diversified economies in the Middle Eas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79 million people live in Egypt. The vast majority of them live near the Nil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176040" y="12600"/>
            <a:ext cx="8547120" cy="167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 rot="21267600"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New Kingdom (1550-1070BC) began with the 18</a:t>
            </a:r>
            <a:r>
              <a:rPr b="0" lang="en-US" sz="2700" spc="-1" strike="noStrike" baseline="30000">
                <a:solidFill>
                  <a:srgbClr val="ffffff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dynasty. Some of the most well known pharaohs ruled then. Hatshepsut, Thutmose the third, Akhenaten, and king Tu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term ‘pharaoh’ started being used for the king during the New Kingdom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Pharaoh means “Great House”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2" name="Title 2" descr=""/>
          <p:cNvPicPr/>
          <p:nvPr/>
        </p:nvPicPr>
        <p:blipFill>
          <a:blip r:embed="rId1"/>
          <a:stretch/>
        </p:blipFill>
        <p:spPr>
          <a:xfrm>
            <a:off x="182520" y="73080"/>
            <a:ext cx="8534520" cy="1542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308px-Pharaoh_svg.png"/>
          <p:cNvPicPr/>
          <p:nvPr/>
        </p:nvPicPr>
        <p:blipFill>
          <a:blip r:embed="rId2"/>
          <a:stretch/>
        </p:blipFill>
        <p:spPr>
          <a:xfrm>
            <a:off x="6095880" y="3603600"/>
            <a:ext cx="1676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Nemes is a royal headdress worn by pharaohs. It was a piece of cloth that covered the crown, wig, and went down on the shoulders and back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A Shendyt was an apron that went around the kings wais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449px-tutmask-1.jpg"/>
          <p:cNvPicPr/>
          <p:nvPr/>
        </p:nvPicPr>
        <p:blipFill>
          <a:blip r:embed="rId2"/>
          <a:stretch/>
        </p:blipFill>
        <p:spPr>
          <a:xfrm>
            <a:off x="7086600" y="152280"/>
            <a:ext cx="1333440" cy="1779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220px-GeneralTjahapimu-StatueTorso_MetropolitanMuseum.png"/>
          <p:cNvPicPr/>
          <p:nvPr/>
        </p:nvPicPr>
        <p:blipFill>
          <a:blip r:embed="rId3"/>
          <a:stretch/>
        </p:blipFill>
        <p:spPr>
          <a:xfrm>
            <a:off x="5715000" y="4114800"/>
            <a:ext cx="905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ost people wore shirts, tunics, sashes, and kilts made of wool or animal ski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Women usually wore dresses with straps and men wore a short loincloth kil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y went barefoot most of the time, but if they did wear shoes they were made of leather and were like flipflop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pic>
        <p:nvPicPr>
          <p:cNvPr id="290" name="Picture 3" descr="egypt_man.jpg"/>
          <p:cNvPicPr/>
          <p:nvPr/>
        </p:nvPicPr>
        <p:blipFill>
          <a:blip r:embed="rId1"/>
          <a:stretch/>
        </p:blipFill>
        <p:spPr>
          <a:xfrm>
            <a:off x="6019920" y="4191120"/>
            <a:ext cx="1233360" cy="2438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egypt_5.jpg"/>
          <p:cNvPicPr/>
          <p:nvPr/>
        </p:nvPicPr>
        <p:blipFill>
          <a:blip r:embed="rId2"/>
          <a:stretch/>
        </p:blipFill>
        <p:spPr>
          <a:xfrm>
            <a:off x="914400" y="4724280"/>
            <a:ext cx="1582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Girls usually married around the age of 12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mother cooked, cleaned, and watched the childr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o Egyptians, children were a great blessing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If their families had enough money, they would send their son to school. Their daughters could be taught at home. Some even become doctor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If you had a lot of children people would think you had a greater incom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If a woman was convicted of a crime and was to be executed, the government couldn’t kill her if she was pregnant. If she wasn’t, they’d kill her anyway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nce most people lived near the Nile and it was difficult to raise livestock, they ate fish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Because of the fertile soil Egyptians grew a lot of whea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Bread and beer was what they usually ate with their meal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Vegetables, figs, and dates were very popular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Grapes were well liked for those who could afford i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FST6CAW65SVKCA690GCVCA5GODI1CACDXFIQCA5SSBIWCAWK15CHCARREATNCATQ2ELNCAVRO5EICA2YPLE9CAJWMZ9ICAK5G52KCAMZAYRTCA3HI0N3CAF10DUNCAP5GETICAHYHQF4CA3OW778CAACPCAI.jpg"/>
          <p:cNvPicPr/>
          <p:nvPr/>
        </p:nvPicPr>
        <p:blipFill>
          <a:blip r:embed="rId2"/>
          <a:stretch/>
        </p:blipFill>
        <p:spPr>
          <a:xfrm>
            <a:off x="4952880" y="5181480"/>
            <a:ext cx="1925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http://www.eternalegypt.org/EternalEgyptWebsiteWeb/HomeServlet?ee_website_action_key=action.display.home&amp;language_id=1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http://en.wikipedia.org/wiki/Egypt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http://www.ancient-egypt-online.com/ancient-egyptian-food.htm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17:43Z</dcterms:created>
  <dc:creator>953980</dc:creator>
  <dc:description/>
  <dc:language>en-US</dc:language>
  <cp:lastModifiedBy>953980</cp:lastModifiedBy>
  <dcterms:modified xsi:type="dcterms:W3CDTF">2010-11-05T18:56:06Z</dcterms:modified>
  <cp:revision>16</cp:revision>
  <dc:subject/>
  <dc:title>Akhenaten, Dweller in Truth</dc:title>
</cp:coreProperties>
</file>